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1869-D49E-4839-A144-14A5C113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1730-B931-4530-BB70-D147AE1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2B58-0EFF-47FB-A853-A69D6361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2A0A-6C81-4C00-8F04-0986741C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4F15-29F7-4FCB-A581-C8D12A16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B151-259E-4F78-BA29-80B2B2B3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3E25-6145-4627-811E-F38D4190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376B-B7E5-419B-BE4E-6914B54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4526-ADFF-4BE6-8ECC-7E2A2F96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F422-EEAA-4E11-824F-3C108267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044C-8EF8-41B2-9790-B3DD6129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A543-AE67-4B39-885E-19D8C4A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BE6F-8C9D-4C87-A9D4-244A05F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786D-F4C0-4D23-9B7A-4D030EC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D9C-2203-4EE7-BC9A-B2C08062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A357-6BE3-4318-A6A9-53189D3E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03C7-80C2-4CD0-B4A2-CC837CDE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7A84-DC2F-47D7-93CB-06FD959F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A394-2009-4E11-B7EA-4943A2CA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AC87-5A5D-4006-AA42-B3FA82A7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67D5-3582-4B42-9F23-F8AC82D5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DC5A-0F81-4CAC-8AC7-836AAEA9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8C3DE-27B4-403F-8C2A-6E17BDD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3C56-3EDF-46A1-ACEA-9AB041D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CF9C-ED24-420A-BFE3-5D4BCB08E3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DA78-90FB-46DB-BB7C-36F3249D3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4465440" cy="2158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132000" y="2060640"/>
            <a:ext cx="4608720" cy="230328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596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87138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8000" y="836640"/>
            <a:ext cx="633744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PUNTOS 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INFORME SOBRE LA ORGANIZACIÓN Y SU 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RUC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UDIO DEL MANUAL DE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ORGANI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ÁLISIS DEL ENTO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ORGANIGRA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MAPA DE 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ALISIS DE LA TECN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ÁLISIS DE LA ESTRATE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ÁLISIS DEL TIPO DE CONFIGURACIÓN 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ORGANIZ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413000"/>
            <a:ext cx="576360" cy="358560"/>
          </a:xfrm>
          <a:prstGeom prst="rightArrow">
            <a:avLst>
              <a:gd name="adj1" fmla="val 50000"/>
              <a:gd name="adj2" fmla="val 4018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84464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234936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3284640"/>
            <a:ext cx="576360" cy="358560"/>
          </a:xfrm>
          <a:prstGeom prst="rightArrow">
            <a:avLst>
              <a:gd name="adj1" fmla="val 50000"/>
              <a:gd name="adj2" fmla="val 4018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285264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371628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14972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501336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458136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47640" y="54936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INFORME SOBRE LA ORGANIZACIÓN Y SU ESTRU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2349360"/>
            <a:ext cx="4608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"/>
              </a:rPr>
              <a:t>¿Qué es el Grupo Magt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"/>
              </a:rPr>
              <a:t>¿Qué es Magtel Sistema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"/>
              </a:rPr>
              <a:t>¿Cuáles son sus áreas de negoc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2492280"/>
            <a:ext cx="288720" cy="287280"/>
          </a:xfrm>
          <a:prstGeom prst="donut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284640"/>
            <a:ext cx="288720" cy="287280"/>
          </a:xfrm>
          <a:prstGeom prst="donut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4148280"/>
            <a:ext cx="288720" cy="287280"/>
          </a:xfrm>
          <a:prstGeom prst="donut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EFINICIÓN DE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421000"/>
            <a:ext cx="67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“ 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Una organización es un sistema social creado para el logro de una finalidad que combina recursos y valores mediante una estructura y unos procesos intraorganizativos e interorganizativo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Berlin Sans FB"/>
              </a:rPr>
              <a:t>A.C. MORALES “Análisis y Diseño de sistemas organizativos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9080" y="97776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¿ Qué es el Grupo Magt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13372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es hoy  un Grupo empresarial que aplica la tecnología en el diseño, construcción y mantenimiento de proyectos en el sector de las telecomunicaciones, Energía, Infraestructuras e Indust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se compone principalmente de seis empresas especializadas como resultado de un importante desarrollo de sus áreas de negoci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R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Renov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Sist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Indus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Aguas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I+D+i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9367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6769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e crecimiento del Grupo es fruto de su espíritu innovador, de una especial vocación por la calidad y la atención al cliente y de un continuo esfuerzo de superación de todas las personas que integran la compañí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829040" cy="321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2060640"/>
            <a:ext cx="378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os principios constituyen desde nuestra creación en 1989, la cultura corporativa de 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  que responde a un modelo empresarial que apuesta por el desarrollo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sostenible, por la formación permanente de sus profesionales, por la constante innovación tecnológica y por la incorporación de nuevas líneas de negocio, anticipándose como siempre eficazmente a las demandas de nuestros clientes y del entorn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48360" y="2708280"/>
            <a:ext cx="1008360" cy="2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Berlin Sans FB"/>
              </a:rPr>
              <a:t>¿ Qué es Magtel Sistema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2133720"/>
            <a:ext cx="69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erlin Sans FB"/>
              </a:rPr>
              <a:t>MAGTEL Sistemas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 forma parte del grupo de empresas </a:t>
            </a:r>
            <a:r>
              <a:rPr b="1" lang="es-ES_tradnl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. Fue constituida en el año 2007 con la misión de prestar servicios avanzados a empresas que permitan aumentar su competitiv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erlin Sans FB"/>
              </a:rPr>
              <a:t>MAGTEL Sistemas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 sólo concibe el crecimiento propio como resultado del crecimiento de sus clientes. Por ello, su principal objetivo es conseguir su confianza y ser percibidos como verdaderos compañeros. Esta colaboración es un pilar básico para ellos, así como trabajar sin olvidar nuestros valores corpora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Berlin Sans FB"/>
              </a:rPr>
              <a:t>¿ Cuáles son sus áreas de negocio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962680" cy="43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6983280" cy="508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08:29Z</dcterms:created>
  <dc:creator>MILAR MASOL</dc:creator>
  <dc:description/>
  <dc:language>en-US</dc:language>
  <cp:lastModifiedBy>MILAR MASOL</cp:lastModifiedBy>
  <dcterms:modified xsi:type="dcterms:W3CDTF">2009-04-14T15:55:05Z</dcterms:modified>
  <cp:revision>7</cp:revision>
  <dc:subject/>
  <dc:title>Diapositiva 1</dc:title>
</cp:coreProperties>
</file>